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85B-0FE6-4B20-8ABC-5B57DC5C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FCF-E6A5-4E4E-A444-6C5A2D3B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A4FD6-6107-4498-A90D-4F0F470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198F-C776-492B-90A0-20748A1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1222-5F36-4764-A8F0-1B15176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4BA9-6939-40E7-BD9D-870D9F5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540B3-FC31-41E8-92F4-FD2103D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6E427-6F41-4B4B-84AB-994D9CD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B945B-5955-4510-AC4D-BE10AC2B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8921-EF27-44DC-82BD-C5F363E1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C329-1027-442A-A130-B2378866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EAC47-5087-4A35-A6FE-FA1B78EF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511-70F2-44BA-93D8-874878B0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C16DA-206E-4204-8584-7F503780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2DD2F-AFCB-45D9-A00D-29C76AD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40549-0612-4C5C-80DB-59905005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64E3D-6ACB-471F-BB3A-957198BF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B1F38-7E20-4821-AF91-76B3AA3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02917-7326-448F-9C50-BA07272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96D7B-708F-49DC-A188-973A12D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8E214-96F0-4EC0-B96D-870CEAA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0629C-14F7-4CF0-AE26-EBE177B1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9B5A3-97F3-484C-BB6F-4DBD18E4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030-527D-4AA6-B79E-1A8FA1EA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FA9D3-6A12-494B-90A0-B97D3DBD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87FD-0855-4D6C-9DBA-24E97AA2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74A1-A93B-42B9-9FD6-177CF1B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AA3A-044E-49D8-9E84-73A3AD8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67ADB-279F-49FE-ACD0-589F629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27960-C481-49C9-A360-11FCD6A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C64CE-7CB1-463A-90AC-27FA53D0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C8FA3-0822-4E0D-9AB3-7CFF9E0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5A18-6289-41B3-A0C7-F289FBF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0F77-ACAA-4F7B-95B1-8A76799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19F-27BC-4073-A895-B6170F68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041B8-D335-4F54-BDCD-BDC3B06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0275E-6D14-4969-8794-575AE9D2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4D4F4-A25E-4B5F-9F21-4803D4DD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3A112-B34F-47C4-9C5C-366C3DC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4AE0F-7947-4736-BAA1-4AFA7E1A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3CE0E-B3C5-4305-8DEE-BF12D93A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7FE87-17C8-47F5-9A8C-10D92FE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1A985-CC03-47CB-A257-37762D13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18BDB-6AC9-47FA-BBA5-C0CAFD4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492D-17ED-4AD2-8461-330AC71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0C4-D92E-4B0C-8D3D-5EBB0C03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CFA3-344E-4832-8A6D-A20546B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7F2E8-4AD9-449A-9E68-D2DBB43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24E21-C0D8-48D5-B2B6-F56F4A82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A248C-FC53-46A1-9034-474E2AAB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D98B4-F9B1-48C2-A5EF-E63B3F2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78FE6-305E-4D96-9BBC-6F231E8A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6E49C-7D13-4955-AA10-B4AB8E6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2C7ED-4657-4679-B966-36DC0B7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D6280-79E4-4460-B002-21312C9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5A4B8-FAB2-4292-B11B-3D54D67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0A9-2FA7-4ECA-ABD0-405E293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E6576-0515-4B27-96AD-6B00B68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03567-1310-4D20-A32B-BC892AA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E575F-5079-4EB6-B449-E67A744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AF4C2-8622-4A79-AB4A-DD69EDF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8FF27-6013-4B82-A259-1442517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B7B2D-527C-4304-AB68-AEBFF31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C83CC-04AE-45F4-B8D8-4ECDB4A1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C5FA1-15E1-4321-A498-1D650065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38064-AD4F-427F-9F57-981C749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D2FEA-09B9-4E65-BB83-987754C4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4B5C-3384-49EE-BE66-205CCE5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3AEBB-23B3-43E1-9D4F-3197BC3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D2F54-D6B2-4294-B223-CAC3C34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40E83-7E64-491F-A442-EEA469B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53653-7A3E-4839-AC1D-68C459E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64A73-39D7-4026-B6C9-14250016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03EBD-0154-44BD-9425-667F3BB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2EDA5-3439-4184-9B6B-CAD305E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8FB24-C242-4063-A447-29104B4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3FDFF-8288-4D72-A5F4-6A67E43D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85C14-05F0-4CDC-8B8E-961E1644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0D17-DED2-47F3-80EA-E390A70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945A7-8EC3-4B63-9A5C-9FE3C52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CC494-2992-441A-98EB-A0C960E2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1323F-81C5-4BA7-A738-C4E2C8C7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F6AE8-70BA-485D-AF7A-D6C82DD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60170-5403-41AC-9C02-315D32F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B28B0-99B3-4A8C-AF4C-68ECBD7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E921A-791D-4A87-94EE-C5B5B4B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A299B-C724-4BEB-9678-6BBF016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808F0-4D23-4AE7-A560-EF3BAF3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00D00-E2A7-40C5-828A-441C5D0F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13E-A03A-4187-A2F0-93EB055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24DFF-A44F-43B5-8524-B2D17483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B5054-E413-4967-A995-CBBA78DE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C6975-9B6A-4EC4-843A-F12C2555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3F7CD-6C99-419B-9F7C-9CD49F9C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8BE3A-6761-4D80-88D6-16691597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03AD5-3485-443A-9581-67D709CC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26785-6E18-4088-840A-32D5B3B3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F88DD-2C7D-452C-AC58-24287BA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C931C-DA9F-4206-BA23-6673F4F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D3DA7-20D5-4841-B746-873DFA3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A10B-837A-4BF7-AB7B-15C9D7A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17FAB-6294-412C-9762-53AC475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8C852-E26E-4F0F-A13F-19C7F50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5B54E-1C56-45B5-B8C4-098F2607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FE118-1FCE-46E3-9684-6959481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A488C-F3D7-4098-8B24-7F689CB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2CDE9-AAF1-4ACE-AC9A-53339A35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8F544-4419-4BD9-AA41-7D39EC6A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BFE6B-0B92-44B8-B6B6-BD45017C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F161D-733D-4697-976A-CAC26259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B2486-A4C0-48A2-9015-3743C12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861-F26F-4B38-9ED6-DEC9C80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728-E7E2-40E7-AF70-9C977FD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2B2A5-546D-4DF1-9E9C-02B9FD5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08971-0685-4896-A58A-E0E9556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8EED5-DCCA-4970-9365-C571C78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43EBD-37B4-450A-A147-D67DF61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5A017-5EF6-459A-88D1-8C7D8F7F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2B8CF-9EFF-401D-958C-BFD578EB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E4EFB-19C4-4EE1-AB0B-F2FACFFF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A8482-FD6C-419B-BB81-CB619CA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B4516-584F-4D5A-8BE6-C5698E03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226BA-8CAE-47F1-8F3F-A1340A7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75F7-FED0-427C-8459-C21BF74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8C6C0-D64C-4E49-AB5F-8BD65BB6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7CB74-7557-4A30-B82D-808264B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82F92-B0E7-425E-BFC1-32B58DA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8A36B-082D-46EE-9BD3-C0CC2157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AD097-AF4D-41A7-9B44-FB24D6E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F1354-A999-48BB-9EF8-F841C616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38C43-D62E-4CD8-AAF4-E2F2D7A9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F2773-761D-4A73-A7A9-369B6F32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5B536-C81B-4C8C-A1ED-673164E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ECE83-59F3-46E5-B30A-EEFF0A7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633-FDF3-4681-A59C-E98846C6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ECB7A-7B85-4AC2-A454-EAB3B80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503A6-3745-4646-97F0-271E50C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C643E-4411-4743-916F-2259924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109D6-3DF4-4813-9FD8-2B511B1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F8EE6-20EC-4E6C-BE4C-7EE4194C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6FD34-5C11-4C6F-A23B-9B864F80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6C0A8-FE47-4F13-A68D-F404022E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BE652-4CF7-446D-BBEC-43F3613E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23D98-7A3A-475C-9725-F3FD0C12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B08A1-B40D-4E38-8AFF-057EA978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2574-B674-489E-83FC-21C80826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E17B7-C5F3-43FD-8A89-B9CB5B3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C386D-EA9B-4DD0-97F5-E4B76FDB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2412C-BBC2-4F96-A373-04A5FD2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862CB-D4B5-4102-B21C-A0215F7E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8D544-500E-475B-8CF8-1B5204F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71581-2D0C-4BEA-A9F6-4B8AA1A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DE9C9-3708-4EB5-AA5A-4CE4347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E32AA-F24C-47FC-AB03-6C1AF404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F20AA-864F-4028-B51B-5AA2627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52C39-EE1A-4FB7-BBF3-B0E870C4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46D-9B2D-4312-A0A0-B8550127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2F7FB-3308-4C90-AF3F-05FB6C39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618E2-04CA-41B8-94B1-A1456479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6D38E-B1F4-484D-B640-38A78BDA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A428F-D3BB-4812-91D2-6FBABF41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3BAC8-5FCE-4DE6-9690-2AE49060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88BE8-F836-48DE-A7F8-2751FC7D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4B2BD-9FBF-405A-A9B7-8102B9D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FA74E-BCF4-4E00-9D43-5C1E386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374F8-2BDD-4C4D-AEC5-5EB9272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E539F-BA66-4AC5-8C03-C402745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97B1-B29C-4B5C-855E-B97608AE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AAC39-B202-4351-836C-C596E4E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46684-6EF3-4869-A2BA-0D810300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F24A2-8E69-4935-BA96-678B0BEC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6DAA-EC7A-49C7-A0D9-0EC906EE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B64A-D415-4A92-895B-AEF3FF53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9953-95D1-4E75-83AF-80170B2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5CEE-D63C-4324-BF08-61C5169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4A7-EB01-40DF-B7D5-C99A4B1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B9EF-AF36-44B6-95BD-D495D44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2C55-33E4-4FA4-BDE7-38895C8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7C0F-63F5-45D8-A830-ADDEF901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A358-96BD-4D8E-9D89-B012A7A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6795-FB37-4793-86E9-40D03DFA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DC05-42F2-4DDA-A05E-ED4EA524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9388-C246-4037-802A-F2591FEE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0EB3-8280-4950-B12F-EF755FFD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0148-A945-49DA-A064-B21EE429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DD0A4-5A08-4078-B314-0F8E4029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7BB-64D7-4291-8FE3-51A0203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E8B2-EC00-4EBE-8887-51CCF06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DD3C-11F6-431C-9CAF-FB5747AC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81F2-1E26-404E-8786-C2E2C8B0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86AE-A640-4BAB-877A-6625F7F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6DDB-594D-4D8E-ABA0-D1996A3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22B9-AED5-403D-8F50-B27A7D2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2045-5719-47F7-A35E-38AF414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5999-D1DB-48D6-A540-FFEE23A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85F3-1B65-4993-AD65-9503F25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8D85-0832-4DE6-A8E3-8689B8F0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7E7-A777-49BB-B1C8-8A85B87E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E4D0-CCEF-4B6B-95C6-B397E29B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0FA2-4732-415A-A920-23F216DE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9B63-E355-4534-A63D-6C99A4F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0613-7D8E-4ED3-BA07-3B6A2E38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75C3-E769-4AD9-AE9D-88E8BE57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D2815-D303-4251-A256-FF430F8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4E140-A249-4224-A663-938E43D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C694-FAE1-40D2-92B5-C66C91D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B6B9E-0F1B-41E6-A596-F9B6E8A2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D418-7F78-4068-90B5-ECB318A2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F4F-432A-4658-9D05-7A63F329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2949-A6B1-47F3-B209-A898408A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D285-B32F-49F8-8BC1-5AC33A69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1F26-7D3C-4604-A15F-D12C9FB4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DE94-84CF-469C-AD68-7556E7FF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080E-16C2-4A82-AD8F-F7A98B04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40C2-E7FE-46AB-8A56-DC82809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4B6D-B430-4897-9659-500B0EF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D57F-0463-407E-8355-42EB4C2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115F-4CE0-48EC-813D-5A1C56A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5873-1F49-4AFE-95BC-3ADB9C8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6C7-599E-46B4-A8EC-63A9160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FE14-DD24-4E28-89E2-B4F527F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7A1A-0A7E-446D-9F45-57A09ACD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B3DA-860B-4103-B29F-C5C61E5D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0955-AE30-416E-B173-7BF10359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C311-C7D6-4C43-B803-34C0F83A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55EC-17F2-4782-8EFD-2227BE9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6085-DCCC-453E-A687-1FB61DB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6A59C-9DD7-4249-8745-4CBDC0C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87B2-8475-4137-8C8F-A6B79B6E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2E3E-3B39-4B6B-B209-B66CA38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5EA-EF6C-4BA5-B055-8CC9D4F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57B79-FC14-4D6B-804D-E802512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9AFE4-C195-4581-83C0-041CB65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12A1-F484-4D9D-9BBC-2813E82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4EF4-5CFC-4BE5-993B-14F3A1DB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AE62-68E8-4BBF-B6DB-4C0F8760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BF33-83BB-4B52-8A4C-562B4008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7D0F9-5F85-439C-953D-BCDA69B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E222-3705-4C13-BEAE-19CCEDE7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59B4D-E029-4793-9655-45D2771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7BAD-E59E-4D4E-AE01-FAD975B9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FFE-7CEE-4F4E-B408-9FA34DD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C854C-2F25-4869-B083-7DC24B8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6B6B-9129-43FB-9409-5DDE85F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AC3B-8202-49E5-B5BF-4A61FB93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4A5C0-6A9B-4379-94FE-AEAC197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4B87-1514-4449-8B8E-88AEB2B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41D8-790C-4568-9944-1386CCA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6FF5-AD83-4B4A-A08B-34752931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25600-0B55-4E98-A79C-2B2C1AB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E1FD-B9AB-4548-AF40-30434DF5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3F70D-786C-4424-A30A-88D25AE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DEC-6164-492D-8E32-008BE744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876-E994-4B99-B22E-27049B17A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420-67B3-48BA-91BA-6B9748415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922-0AF9-48C9-A3F0-8AADCC3DF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603-AE47-4C43-B5D6-04374E384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8AB-F593-4C63-9C2C-A91FBE4C0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A242-8AC3-44C2-A317-B483C42E2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0E6-8423-4163-8FF5-7F9FE192B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EF0A-A71C-4A47-B0F9-86042657F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05B-3083-46E8-8B12-36000D358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9B73-D272-4CB4-8E31-C018D386C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5460-5DC6-4FB7-B2D9-C93BB23824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CB1-AF15-4F60-9CFA-0C0F8E5EB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C67-1AFF-4AC0-98EC-4F2249901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1543-DF27-4AB1-9696-F2E1FCB3F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853C-C3D2-409B-BA18-F5BFB7DDDC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850B-F30D-4275-B4EE-0E335BAFD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281-36F3-4C2E-AC9B-32A94085A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A55D-4017-4C75-9CAC-C89C608E7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2C7-263C-4181-86DD-7EC8D77AE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E8BB-91B6-4888-B5BE-F388AF8A8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D79D-EDF6-42B8-AB6B-4AE605FB32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7580-292B-465A-B6A1-3BFBF6922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BC5-B2E6-4225-A012-7F1DE944EE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BE1-89EC-43CE-A5DB-65D825413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55FA-CD51-4C04-A8A1-B7C8DC2F3C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DBE-A887-42B4-9694-78107FF5B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4D4B-34CD-48C0-AF76-4052087E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A2E-99AC-4622-8A8E-466196FCA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79A-DEF3-497D-9885-B833E28F1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6111-A276-4F1E-AEEA-469908EA0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646E-B19F-4DA8-8731-1E4B5386F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FFEE-8C68-4F5E-8D7C-21B8CCA80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7318-34E9-4A8A-9105-ED86589B4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CFB-0644-4644-9C8E-800602B69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9A4-AE03-4CE2-87CC-6915C2895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D600-093C-43F9-900C-767FF4222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4347-275C-42B8-82CE-A2A352A74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5B9-C57A-4D79-9535-7AED132BF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380-704E-47F0-913C-35EC9A463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033640" y="2938320"/>
            <a:ext cx="50767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2" descr=""/>
          <p:cNvPicPr/>
          <p:nvPr/>
        </p:nvPicPr>
        <p:blipFill>
          <a:blip r:embed="rId1"/>
          <a:stretch/>
        </p:blipFill>
        <p:spPr>
          <a:xfrm>
            <a:off x="114480" y="1554120"/>
            <a:ext cx="8915400" cy="3749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1224000" cy="4046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099" descr=""/>
          <p:cNvPicPr/>
          <p:nvPr/>
        </p:nvPicPr>
        <p:blipFill>
          <a:blip r:embed="rId3"/>
          <a:stretch/>
        </p:blipFill>
        <p:spPr>
          <a:xfrm>
            <a:off x="900000" y="204624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0" descr=""/>
          <p:cNvPicPr/>
          <p:nvPr/>
        </p:nvPicPr>
        <p:blipFill>
          <a:blip r:embed="rId4"/>
          <a:stretch/>
        </p:blipFill>
        <p:spPr>
          <a:xfrm>
            <a:off x="2268360" y="204624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1" descr=""/>
          <p:cNvPicPr/>
          <p:nvPr/>
        </p:nvPicPr>
        <p:blipFill>
          <a:blip r:embed="rId5"/>
          <a:stretch/>
        </p:blipFill>
        <p:spPr>
          <a:xfrm>
            <a:off x="4299120" y="204624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2" descr=""/>
          <p:cNvPicPr/>
          <p:nvPr/>
        </p:nvPicPr>
        <p:blipFill>
          <a:blip r:embed="rId6"/>
          <a:stretch/>
        </p:blipFill>
        <p:spPr>
          <a:xfrm>
            <a:off x="6962760" y="2044800"/>
            <a:ext cx="733320" cy="44424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3" descr=""/>
          <p:cNvPicPr/>
          <p:nvPr/>
        </p:nvPicPr>
        <p:blipFill>
          <a:blip r:embed="rId7"/>
          <a:stretch/>
        </p:blipFill>
        <p:spPr>
          <a:xfrm>
            <a:off x="8272440" y="205884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104" descr=""/>
          <p:cNvPicPr/>
          <p:nvPr/>
        </p:nvPicPr>
        <p:blipFill>
          <a:blip r:embed="rId8"/>
          <a:stretch/>
        </p:blipFill>
        <p:spPr>
          <a:xfrm>
            <a:off x="898560" y="257796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4105" descr=""/>
          <p:cNvPicPr/>
          <p:nvPr/>
        </p:nvPicPr>
        <p:blipFill>
          <a:blip r:embed="rId9"/>
          <a:stretch/>
        </p:blipFill>
        <p:spPr>
          <a:xfrm>
            <a:off x="2252520" y="2593800"/>
            <a:ext cx="733680" cy="4446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4106" descr=""/>
          <p:cNvPicPr/>
          <p:nvPr/>
        </p:nvPicPr>
        <p:blipFill>
          <a:blip r:embed="rId10"/>
          <a:stretch/>
        </p:blipFill>
        <p:spPr>
          <a:xfrm>
            <a:off x="4010040" y="257796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4107" descr=""/>
          <p:cNvPicPr/>
          <p:nvPr/>
        </p:nvPicPr>
        <p:blipFill>
          <a:blip r:embed="rId11"/>
          <a:stretch/>
        </p:blipFill>
        <p:spPr>
          <a:xfrm>
            <a:off x="529128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4108" descr=""/>
          <p:cNvPicPr/>
          <p:nvPr/>
        </p:nvPicPr>
        <p:blipFill>
          <a:blip r:embed="rId12"/>
          <a:stretch/>
        </p:blipFill>
        <p:spPr>
          <a:xfrm>
            <a:off x="696276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4109" descr=""/>
          <p:cNvPicPr/>
          <p:nvPr/>
        </p:nvPicPr>
        <p:blipFill>
          <a:blip r:embed="rId13"/>
          <a:stretch/>
        </p:blipFill>
        <p:spPr>
          <a:xfrm>
            <a:off x="8286840" y="2593800"/>
            <a:ext cx="733320" cy="444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6300720" y="4365720"/>
            <a:ext cx="1295640" cy="404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2498760" y="4869000"/>
            <a:ext cx="129528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347760" y="1123920"/>
            <a:ext cx="8447040" cy="4610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042920" y="47242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23720" y="1986120"/>
            <a:ext cx="8294760" cy="2885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27200" y="3716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44280" y="906480"/>
            <a:ext cx="8658360" cy="12193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" descr=""/>
          <p:cNvPicPr/>
          <p:nvPr/>
        </p:nvPicPr>
        <p:blipFill>
          <a:blip r:embed="rId2"/>
          <a:stretch/>
        </p:blipFill>
        <p:spPr>
          <a:xfrm>
            <a:off x="496800" y="2246400"/>
            <a:ext cx="8542440" cy="371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741240" y="2205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684360" y="3068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684360" y="3875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68436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1447920" y="542880"/>
            <a:ext cx="6248160" cy="6238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12400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2124000" y="4869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2124000" y="60213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757080" y="2090880"/>
            <a:ext cx="7628040" cy="26762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547640" y="29383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547640" y="3371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1476360" y="3832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1547640" y="42642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4:4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